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1EB-3C1F-4F23-AF64-0CF4236A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4EC-A29B-4C43-9104-47F885C4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254-3783-4329-B4CF-388B8AC8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1CC-E310-4604-9999-599941AA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8FF-D84E-4C92-971D-A3D7DB3D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499-3BAC-4AFD-A054-154EC8EF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3B6-1204-4B57-9167-8AB8E45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611-E233-4EC8-AC0C-5C73EB4A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1EF-3E95-4CFC-B29C-75D9574E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C9A-7267-44D6-B90C-E905543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E79-74AC-4DF2-AE60-EB3F04AA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4EC-8213-4E37-A233-E73B034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A070-7503-4BD1-AC27-C0ED6672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28600"/>
            <a:ext cx="5715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ying to University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t. 2011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my op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r researc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E-Info, OUAC online video 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program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ill you finance you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holarships/Bursaries/Loans/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SAP – apply on-line in mid-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your deadli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5335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fe after high school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5790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.  When will I receive my accep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rly offers of admission –Dec/J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offers – March/May/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ternate Offers of Ad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ferrals / Conditions of 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your academic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us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 us know if you are taking   a course outside of regular day school (night school, summer school, e-  learning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5668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eck out the grad wiki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ing outside of Ontario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areer Counselling- Amanda – Gu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10.  Q  &amp;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42:51Z</dcterms:created>
  <dc:creator>Customer</dc:creator>
  <dc:description/>
  <dc:language>en-US</dc:language>
  <cp:lastModifiedBy>Customer</cp:lastModifiedBy>
  <dcterms:modified xsi:type="dcterms:W3CDTF">2010-11-03T15:17:44Z</dcterms:modified>
  <cp:revision>13</cp:revision>
  <dc:subject/>
  <dc:title>RHS Applying to University  Sept. 2010  </dc:title>
</cp:coreProperties>
</file>